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07B-9C1F-476C-82D1-88B6A515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8B6-9C7B-48DC-ACAD-F6D289A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12B-8D79-4F9D-B2CD-7430DD2C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8C6-C73A-405D-87B0-85F29D5F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CD86-FC85-4335-95B1-233286F1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9F2-2080-4ED3-B091-9AFA7A7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9442-8412-4778-A8C4-270B985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630-D94C-49D0-B6EC-D14AFDF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ACA-CBB4-4B4F-AB59-09E2B3B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2800-1C94-44C5-9E91-1ACA2B0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3858-8A3F-4908-8DD3-A5AB067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5E5-23B1-429D-B25E-2B6CE65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CFC6-7CCF-46B3-AAF7-83ADD05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9A87-7E54-4FB0-9A71-6D1F6989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2F1F-D76C-45C7-AAF0-5701BC5A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955-359C-4337-9CB7-DE5FA99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1A10-E057-49FF-B1DE-28C66B0A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044-4373-4E9D-8E33-0816F024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FE1-108A-402A-AFAC-1A38F12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CDB-1E2E-4CAD-9729-FECDADA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44A-18C2-4791-88CE-55A42CD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826-214C-4D10-8C03-87A8EB9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17F-8F12-4784-AF58-6B1A715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7E4-0591-4AAC-81ED-FB8042B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0DA-8886-4D54-8850-BBEF58F8498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36D7-1B0C-44C3-9285-E7FAD44E2A18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Formez</a:t>
            </a:r>
            <a:br>
              <a:rPr sz="2400"/>
            </a:br>
            <a:br>
              <a:rPr sz="2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Il welfare in Italia e le politiche per i minori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rtino Rebon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tania, 22 giugn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fare familiare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Famiglia soggetto e oggetto di welf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li ed esperienze di coniugalità, di paternità, di maternità e di fratella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Solidarietà intra-generazionale e inter-generazion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F88-996D-4980-9D71-C90975349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fare familiare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Miti e riti dell'identità adolescenzi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istacco dalla famiglia di origine e formazione di nuove famigl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Violenza e disagio “delle”  e “nelle” famigl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Solitudine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2AB-6AE5-484C-AC45-DFBA81351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La questione educativa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educazione nel tempo e nello spazio di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Gli ideali e i percorsi della cittadina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 tempi e i luoghi della scuo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ori (maestri, padri…) cercasi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4FF-3915-445B-B7CC-8B4033B0B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eontologia</a:t>
            </a: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i un nuovo welfare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40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 rischi del riduzionismo tecn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l welfare delle responsabilità: io, tu, noi, qui e o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i singoli, delle famiglie, delle comunità locali, delle comunità religio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234-BE41-4AF7-A79B-FA42A0258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eontologia</a:t>
            </a: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i un nuovo welfare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40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lle organizzazioni a rilevanza sociale ed econom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lla </a:t>
            </a:r>
            <a:r>
              <a:rPr b="0" i="1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Res Publica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: Enti locali, Regioni, Stato, Unione europe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i mass med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263-EF0B-4D45-82A2-9D0650639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Le politiche socio-assistenziali per i minori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 Piano per l'infanzia e l'adolesce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 testa ai miei pensieri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’occasione storica: i livelli essenziali per l'esercizio dei diritti e delle opportunit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8FA-7851-4F1A-A06C-76C36F02FB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Le politiche socio-assistenziali per i minori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 prospettive di sopravvivenza e di sviluppo per la legge 285/97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a sfida da raccogliere: la chiusura degli Istitu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D80-276B-488B-88D5-20EE0E91A1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47:09Z</dcterms:created>
  <dc:creator>martino</dc:creator>
  <dc:description/>
  <dc:language>en-US</dc:language>
  <cp:lastModifiedBy>martino</cp:lastModifiedBy>
  <dcterms:modified xsi:type="dcterms:W3CDTF">2004-06-22T08:57:07Z</dcterms:modified>
  <cp:revision>7</cp:revision>
  <dc:subject/>
  <dc:title>Formez  Il welfare in Italia e le politiche per i minori </dc:title>
</cp:coreProperties>
</file>